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7CB-6EDB-40A2-BBE9-F19DAFCF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FAE-F8D6-4C2B-A7FE-284066BA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93C-813B-4194-B766-14C9CD1D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E3A-C5E4-41AB-B34C-5134D486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B83-6226-4836-A8F0-2A066D4A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279-A5C2-4C46-AA77-5EE75055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307-7C13-4F2D-A4A3-45C39388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C3F-8275-4D3B-9B33-2D4A35F2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04D-9600-433F-8915-5659BC81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499-DAB2-4369-A7FA-85F9E93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3AB-D8F4-4A56-80C8-E443D580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407-9BCD-4262-91BB-4B97D1C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DA31-991E-4207-AAB1-4B5D1921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Go in pe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refreshed and rene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the eternal love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8:04Z</dcterms:created>
  <dc:creator>Anon Anon</dc:creator>
  <dc:description/>
  <dc:language>en-US</dc:language>
  <cp:lastModifiedBy>Anon Anon</cp:lastModifiedBy>
  <dcterms:modified xsi:type="dcterms:W3CDTF">2005-08-09T05:27:48Z</dcterms:modified>
  <cp:revision>7</cp:revision>
  <dc:subject/>
  <dc:title>PowerPoint Presentation</dc:title>
</cp:coreProperties>
</file>